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6386-9110-454A-B53E-688AA86FF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61E3-A0A0-4AD9-9705-7999349A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6B67-BB79-4046-929B-BFB0123C8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D1B4-E907-437B-912C-384E7A365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6059-46EB-4916-8D54-8BFB3CB13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33F3-1824-46CC-8E7E-46A24839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1429-3116-4F26-B358-B73630C5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9ED9-4910-44B5-94E1-6838192F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D9B1-50F6-4EAB-ABF7-9B03F846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5D55-740F-4E9F-8CC0-F1DB1B66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A821-5C2D-4EB2-B2B6-7BA1E1FD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5755-E553-49E5-8003-36EF8A5C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8356-8864-4922-9938-2CBF76DC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902D-68AA-4FA9-B9B7-854BFBE9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6732-76F0-4666-AA2A-45466EA7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CFAD-3093-471B-B087-8207AB182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D218-996F-471B-BA11-54574FCA5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8F43-7CF0-4424-B4E5-671D5DC1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D230-A91E-4D27-86BA-1E113495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BD71-C7A0-4FFB-8132-9A03FA40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81E3-6F56-4FEC-B216-E70249D5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7BEF-4658-435E-B1B5-C2DB9969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4850-1775-467E-BC2C-CC3A2A99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E775-4FD6-44A0-A7B4-B7D11DC6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22D6-52FA-41AE-BDFE-C7DC2CF97CB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38C0-1DA1-415F-B58A-954D42A0957C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cosystems and Living Organism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hapter 4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-169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Methods of protection for pre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lant defens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601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pines, thorns, etc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601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Excretion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601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oxin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601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Allelopathy (black walnut &amp; cherrybark oak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Animal defens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601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Fight or fligh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601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Warning color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601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amoflagu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601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oison gland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601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hells, herds, etc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66680" y="1218960"/>
            <a:ext cx="777240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mpeti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Use of common essential &amp; limited resour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ntraspecific competition –within a popula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nterspecific competition – between population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ometimes subtle and complex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Organisms that compete may also benefit each oth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Ecological Nich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roducer, Consumer or Decomposer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redator and/or prey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ymbiotic relationship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cological niche – Role in the ecosystem and in 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habit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Nich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181120" y="1142640"/>
            <a:ext cx="39625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Fundamental niche – Potential idealized nich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Realized niche – Niche that an organism actually us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his difference is due to competition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6280" y="81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51814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Limiting Factor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ny resource that restricts the ecological niche of an organism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Usually simpl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inerals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alt concentration in wat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Amount of precipit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emperatur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Graph p. 77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mpetitive Exclus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ne species is excluded from part of a niche because of competition with another species (interspecific competition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o two organisms can occupy the same nich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existence is possible if niches are reduced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Gause stud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76280" y="81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5438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Resource partitioning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duction in competition for resources that occurs as a result of each species’ niche differing from the others in one or more way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76280" y="81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925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pecies Diversit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101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number of species present in a communit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igh diversity:  tropical rain forests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Low diversity: isolated islands, mountaintop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mmuniti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ifferent populations of organisms that live and interact together in the same place at the same ti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Vary in siz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No true boundari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xample Rotting Lo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rganisms in Communities and Populations compete for resourc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Schematic description of the terminological concept of bio-, geo- and ecodiversity"/>
          <p:cNvPicPr/>
          <p:nvPr/>
        </p:nvPicPr>
        <p:blipFill>
          <a:blip r:embed="rId1"/>
          <a:stretch/>
        </p:blipFill>
        <p:spPr>
          <a:xfrm>
            <a:off x="1295280" y="1676520"/>
            <a:ext cx="6553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1. Abundance of potential ecological nich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greater the complexity of the community, the more potential niches available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ore niches available, the more organism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more organisms, the more diversit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2. Location at the margins of adjacent communiti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pecies diversity is greater at the margins of adjacent communiti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Ecotone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– A  transitional zone where two or more communities meet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Edge effect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- The change in species composition at ecoton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3. Geographical isol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more isolated the community, the less diverse it will be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annot be readily replac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ntain fewer potential nich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sland biogeograph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4. Dominance of one species over anoth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en one species uses more than its share of resourc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t out competes other speci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Kangaroo rats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5. Environmental Stres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more environmental stress, the less the species diversit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olluted stream vs. clear strea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rban vs. rural area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emperatu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6. Geological histor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older the community, the higher the species diversit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Glacier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Volcano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slan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ntinental Drif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Correlation of North American vascular plants richness with environmental parameters"/>
          <p:cNvPicPr/>
          <p:nvPr/>
        </p:nvPicPr>
        <p:blipFill>
          <a:blip r:embed="rId1"/>
          <a:stretch/>
        </p:blipFill>
        <p:spPr>
          <a:xfrm>
            <a:off x="0" y="0"/>
            <a:ext cx="7467480" cy="691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cosystem Servic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rovided by the ecosyste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lean air, wat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Fertile soi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more diverse an area, the better the ecosystem servic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mmunity Stabilit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ability of a community to withstand environmental stresses and disturbanc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greater the species diversity, the more stable the community and the less important the species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American Chestnu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cosyste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sum of a community and the abiotic environmen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.e many populations + soil, water, weather, terrain, etc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deer exclosu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Succession: How Communities Chang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stages of community developm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lonization and replacem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hange in species diversity and abund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Leads to climax vegetation and stability?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rimary Success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ioneer Communit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ew soil/uninhabited environm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Lichens = break down rocks into soi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n mosses, ferns, grasses, shrubs, tre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econdary Success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fter major disturbance where plants once we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Light seeded plants; shade intolerant; small, fast growing, highly reproductive plants and animal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nimals undergo succession with plant communiti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Keystone Speci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species in an ecosystem that affects many other species so that it cannot be readily lost or replace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Usually affect some type of resour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o not have to be high in number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xample: gopher tortoise/wolves/panther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nteractions among organism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ymbiosi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Result of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coevolu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ypes of symbiotic relationship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Mutualis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Lichen (algae and fungus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ommensalis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Gray whale and barnacl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arasitis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osquito and huma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athogen = causes death and/or diseas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nteractions among organism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Predation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redator (larger, more complex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rey (might be plants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Result of Coevolu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elective forc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Results of random mutation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Methods of preda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ursui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Ambush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9T11:53:46Z</dcterms:created>
  <dc:creator>Pace Academy</dc:creator>
  <dc:description/>
  <dc:language>en-US</dc:language>
  <cp:lastModifiedBy>Pace Academy</cp:lastModifiedBy>
  <dcterms:modified xsi:type="dcterms:W3CDTF">2007-09-18T15:59:40Z</dcterms:modified>
  <cp:revision>12</cp:revision>
  <dc:subject/>
  <dc:title>Ecosystems and Living Organisms</dc:title>
</cp:coreProperties>
</file>